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344-03C0-4944-82CC-3803C60126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F11F-EE39-4CDB-865E-B3F12818A7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is a family affair, if parent’s are not interested in their child’s school, the child will also not be interested in their personal achiev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o your child builds parent child bonds and improves the child’s vocabulary thus closing the achievement gap between the different socioeconomic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9221-37C8-4468-A9FE-1C5634CAEF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helmingly, all the research indicate that parent involvement has a positive impact on student achiev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66BF-0553-4D4B-8F7B-9CFF4DA2F0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ent’s interest in their child’s work at home or at school allows the child to establish a value on his/her edu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C226-524A-49D2-88D2-CBFE4206A7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AF65-AE01-4877-99F7-295A52563B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572D-1D89-43F2-B368-4FD3C1446D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s do not involve parents in the decision making and are content with their participation in PTA and school curriculum mee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E77-187F-4EA8-A184-49859A02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0E2-E0F6-41B0-9459-703915DA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D26-37C5-4E52-82A8-07B6CD5D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E07-6F1F-4AEC-B014-0433FFF6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8F75-5466-41A2-A0AC-3AC83A46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174F-56A8-4DB2-BFDF-75752C1E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F3DD-F450-4538-8572-EF24259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5117-0BF3-43B4-B8C6-440B9F27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A80B-509E-48B2-BD59-3D63813C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22C-E6F7-41BB-80FF-6A40832C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CAC5-28A1-4ECB-AC4F-647751F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5A6-29FD-4D74-9706-31B190DE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6007-20D0-49D6-8736-B424610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51D7-3E3D-4869-97EE-9BD32746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4C51-4E1D-403B-BAC9-CB4DAA17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D179-21DB-4B6B-A2D9-ECCC0BF2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EF9D-16F0-400F-8C91-18DFF4B3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F62-BA6B-4F29-9CA9-278A40DC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B78-295A-467C-A950-E4E61C64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094-624E-4CC1-A395-63F6909C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386-F9C5-440D-91E8-C9F2A1C7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4B3-95BA-4BCB-A272-5B924B7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F31-EEE3-4202-B87D-FF427B8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082-E5E7-4796-8005-84A1BCB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CFF4-A19E-4549-9A2E-3EEBCAF5A8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545D-051D-435E-AD2D-93721AE9A7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tc.usf.edu/clipart/16100/16161/reading_16161_lg.gif&amp;imgrefurl=http://etc.usf.edu/clipart/16100/16161/reading_16161.htm&amp;h=594&amp;w=700&amp;sz=81&amp;tbnid=VpS0emKVTinPUM:&amp;tbnh=119&amp;tbnw=140&amp;prev=/images%3Fq%3Dchildren%2Breading%2Bclipart&amp;hl=en&amp;usg=__yIFj9d4WH4dacJOOxRtp3i9lk5s=&amp;ei=yuHLSvPXGIallAep6KHaBQ&amp;sa=X&amp;oi=image_result&amp;resnum=3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Parent Involvement and Academic Achievem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usan Campbell &amp; Sharon Glasg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EDU 702.2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all 200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9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4642"/>
                </a:solidFill>
                <a:latin typeface="Comic Sans MS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R-1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increased pare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on in their child’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ucation, grades will impro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R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 two 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grade classes of 25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tudents at PS-Y we will attempt to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ve that by reading to children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ree times a week their grades will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mprove.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Reading Changes L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http://etc.usf.edu/clipart/16100/16161/reading_16161.htm"/>
          <p:cNvPicPr/>
          <p:nvPr/>
        </p:nvPicPr>
        <p:blipFill>
          <a:blip r:embed="rId1"/>
          <a:stretch/>
        </p:blipFill>
        <p:spPr>
          <a:xfrm>
            <a:off x="155520" y="46080"/>
            <a:ext cx="1047960" cy="89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Butterfly And Flowers Clipart"/>
          <p:cNvPicPr/>
          <p:nvPr/>
        </p:nvPicPr>
        <p:blipFill>
          <a:blip r:embed="rId2"/>
          <a:stretch/>
        </p:blipFill>
        <p:spPr>
          <a:xfrm>
            <a:off x="3276720" y="2362320"/>
            <a:ext cx="251460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derson, A. T., &amp; Mapp, K. L. (2002)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 new  wave of evidenc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Austin, TX: National Center for Family and Community Connections with School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trikakou, E. N., Weissberg, R. P., Redding, S., &amp; Walberg, H. J. (Eds.). (2005)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chool-family partnerships: Fostering children’s school succes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New York: Teachers College P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derson, A. T., &amp; Berla, N. (1994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). A new generation of evidence: The family is critical to student achievemen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St Louis, MO: Danforth Foundation and Flin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ey, N., Lewis, L., Farris, E., &amp; Westat, I. (1998). Parent Involvement in Children's Education: Efforts by Public Elementary Schools. National Center for Education Statistics Statistical Analysis Report. http://search.ebscohos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atement of the Hypothe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indicates that there are positive academic outcomes stemming from parental involvement with benefits beginning in early childhood throughout adolescence and beyond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nderson &amp; Mapp, 2002; Patrikakou, Weisberg, Redding, &amp; Walberg, 2005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Statement of the Probl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children move up in grades, parent involvement wanes.  This research project will attempt to prove that increasing parent involvement will improve children’s academic achiev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Review of Litera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well-established fact that parental involvement is linked to children’s success at school. When parents are involved in their children’s education at home, they do better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enderson and Berla,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http://etc.usf.edu/clipart/16100/16161/reading_16161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7600" cy="895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eview of Literature (continue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involvement is a valuable component of any student’s edu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evel of parent–school involvement is a better predictor of grades than are standardized test sco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esimone, 1999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eview of Literature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12 years of 180 six-hour days spent in school add up to only 13 % of a student’s waking, learning time during the first 18 years of life. The rest, 87% is spent out of school, primarily at home. (Walber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4889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o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stein’s Framework of SixTypes of Involvement:  parenting, communicating, volunteering, learning at home, decision making and collaborating with commun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4508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ntional avenues for involving parents in school can be closed to parents due to specific cultural knowledg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0:00:42Z</dcterms:created>
  <dc:creator>1b-9</dc:creator>
  <dc:description/>
  <dc:language>en-US</dc:language>
  <cp:lastModifiedBy>Authorized User</cp:lastModifiedBy>
  <dcterms:modified xsi:type="dcterms:W3CDTF">2009-10-22T22:55:28Z</dcterms:modified>
  <cp:revision>29</cp:revision>
  <dc:subject/>
  <dc:title>Slide 1</dc:title>
</cp:coreProperties>
</file>